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1CBC-4710-40D1-BA12-0F63D6C0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C0D-55B6-4B2F-AFFF-F5576A471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B51-2488-44DB-BE1F-0532C2ADE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290-3444-4E2E-AFCB-A0617199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591-4A90-462A-A992-4088734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864-C4B0-4E9D-9A5F-A56F1CF3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810-A29F-45BB-B55A-6D213272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5667-B929-4643-83CB-EEEBD7A5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7118-1258-473A-958A-8A3A6ABA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5285-7E0E-4217-9972-B9DC9950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BB7-A79B-4EB7-BEBF-190FA524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C80-4CB5-41D2-9E5C-092A661D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D7E7-01BC-4BE6-9B5F-4BCF001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11E-44AE-4578-9D8E-25921A90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6A6-9822-4529-BB65-0CB3DF9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3C5-9A65-4BDE-806F-C6EBFB1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28D-3A4F-41EA-97DB-5E7EFD0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155-2117-49D5-91E2-F6B37DB1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914-EB40-4CB6-B947-1C5A4B7C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7BC2-50DE-4EDD-8804-E7CD9D8B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4CC-DAAC-4A60-A05A-C72E6D33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E3B-C4B1-42A8-80FE-99A46323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C67-728D-43F1-8DC7-44BC5A93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AD9-A5AF-438F-906D-2E6042BD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A48-68DF-41A5-A902-37F0279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52B-B210-4699-BBAD-0C85186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AE5-E321-4FFC-90F4-E675855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A21-767C-4B55-9713-2FDBEF0300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08C5-F4C8-463E-B78E-DF075B47CA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http://lme.is.edu.ro/socrates/normal7.jpg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4335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826920" y="18900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MASINA VAN DE GRA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9280" y="64260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Aceasta masina are doi poli : o sfera metalica goala in i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numita </a:t>
            </a:r>
            <a:r>
              <a:rPr b="1" lang="en-US" sz="2400" spc="-1" strike="noStrike">
                <a:solidFill>
                  <a:srgbClr val="cccc00"/>
                </a:solidFill>
                <a:latin typeface="Baskerville Old Face"/>
              </a:rPr>
              <a:t>colectorul de sarcini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si o alta mai mica numita </a:t>
            </a:r>
            <a:r>
              <a:rPr b="1" lang="en-US" sz="2400" spc="-1" strike="noStrike">
                <a:solidFill>
                  <a:srgbClr val="cccc00"/>
                </a:solidFill>
                <a:latin typeface="Baskerville Old Face"/>
              </a:rPr>
              <a:t>ecl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Colectorul se sprijina pe o coloana in care se afla o banda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cauciuc sau matase cauciucata trecuta peste doua role cilindrice si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poate fi pusa in miscare cu ajutorul unei manivele.Doua periute metali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ce ( una aflata la partea superioara, iar cealalta la partea inferioara a ma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sinii) preiau sarcinile care apar pe banda ca urmare a frecarii ei cu c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doua role si le transmit celor doua sfere.Colectorul de sarcini se va elec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triza negativ, iar eclatorul se va electriza poziti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Accesorii ale masinii electrostati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casuta cu paratras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conductor sfer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conductor cilindric-con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descarcator electr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morisca ele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umbrela ele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8:45:20Z</dcterms:created>
  <dc:creator>Grupa nr.5 cls.a - X -a</dc:creator>
  <dc:description/>
  <dc:language>en-US</dc:language>
  <cp:lastModifiedBy>Ileana</cp:lastModifiedBy>
  <dcterms:modified xsi:type="dcterms:W3CDTF">2009-07-18T19:03:34Z</dcterms:modified>
  <cp:revision>2</cp:revision>
  <dc:subject/>
  <dc:title>Masina Van de Graaf</dc:title>
</cp:coreProperties>
</file>